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C514-100F-4C52-88CD-E8DA5EB37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8231-426D-45E2-8A66-3F2384FA89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950-25F1-4EEF-AF9F-DA156904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0A9-6BC2-4E2F-A63C-4CF0385F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5A7-D37E-4FC2-AE68-EF08701F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022-A031-44CB-ABB3-FC77593B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5B5-10A2-4042-81F3-D832CC32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512-95C6-440E-8E03-A447F4CD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65D-CD09-482F-B3E4-252408C3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97A-9E60-46E7-A3B6-2C9419B2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A1B-B527-4727-951C-063508CA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5AB-8E41-4499-926F-05E8DE2C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CA2-FA52-4316-8C16-DE7EEC1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F86-0E18-4000-BF4E-F5B6E08A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444C-416C-4D63-AFFC-81236B7DC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ur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25780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11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2986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ub 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76320" y="76320"/>
            <a:ext cx="5562000" cy="609480"/>
            <a:chOff x="76320" y="76320"/>
            <a:chExt cx="5562000" cy="6094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283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1392120" y="150120"/>
              <a:ext cx="4246200" cy="48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04920" y="387036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d Pages 14-19, 35, &amp; 37-41 to complete the workshe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066680"/>
            <a:ext cx="8153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99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gnetism and Static Electricit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100000">
                    <a:srgbClr val="99ff33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99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 Assign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100000">
                    <a:srgbClr val="99ff33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Read Pages 14-19, 35, &amp; 37-41 to complet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sm and Electricity Textbook Assig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extbook assignment is finished early…COMPLETE KEY QUESTIONS 14 &amp;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D STEP 2: Due Monday – construct and bring switch in to class w/o p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fference between static charge and magnetic po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D3A6F900-7347-42A3-9288-2156271D58B4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e shape of magnetic fiel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magnetic fields and how electric charges interac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how electric charges build-up and transf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0" y="0"/>
            <a:ext cx="2286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320" y="152280"/>
            <a:ext cx="67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gnetism &amp; Static Electri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 Assig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9144000" cy="10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PAGES 14-19 TO ANSWER QUESTIONS 1-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art of an atom spins to produce a magnetic field? 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most materials not magnetic?  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 domain arrangements of magnetized and not magnetized materials compare?  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common ferromagnetic materials found in nature?  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you make a temporary magnet from a paperclip?  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wo different ways to destroy a magnet?  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break a magnet in half?  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ELECTRIC CHARGE” (PAGE 35) TO ANSWER QUESTIONS 8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that are the same ____________________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that are different ____________________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one important difference between electric charges and magnetic poles?  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434880"/>
            <a:ext cx="9144000" cy="75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STATIC ELCTRICITY” (PAGE 37) TO ANSWER QUESTIONS 11 &amp;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tatic electricity?  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static mean?  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TRANSFERRING CHARGE” (PAGES 38 &amp; 39) TO ANSWER QUESTIONS 13-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____________________ is the transfer of electrons from one uncharged object to another by 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____________________ is the transfer of electrons from a charged object to another by direct 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____________________ is the transfer of electrons to one part of an object that is caused by the electr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 of a second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STATIC DISCHARGE” (PAGES 40 &amp; 41) TO ANSWER QUESTIONS 16 &amp; 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negatively and positively charged objects are brought near each other?  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ny spark you see when touching a doorknob and lightning are both examples of 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3258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Step 2:  Due MOND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ey Questions 11-15 Due Friday, March 2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typed!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like magnetic poles which must be in pairs, electric charges can stand al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AnswerNow"/>
          <p:cNvGrpSpPr/>
          <p:nvPr/>
        </p:nvGrpSpPr>
        <p:grpSpPr>
          <a:xfrm>
            <a:off x="3048120" y="152280"/>
            <a:ext cx="2222280" cy="444240"/>
            <a:chOff x="3048120" y="152280"/>
            <a:chExt cx="2222280" cy="444240"/>
          </a:xfrm>
        </p:grpSpPr>
        <p:sp>
          <p:nvSpPr>
            <p:cNvPr id="74" name="ANShape"/>
            <p:cNvSpPr/>
            <p:nvPr/>
          </p:nvSpPr>
          <p:spPr>
            <a:xfrm>
              <a:off x="3048120" y="1522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NText"/>
            <p:cNvSpPr/>
            <p:nvPr/>
          </p:nvSpPr>
          <p:spPr>
            <a:xfrm>
              <a:off x="3048120" y="1522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0:52:52Z</dcterms:created>
  <dc:creator>CCPS</dc:creator>
  <dc:description/>
  <dc:language>en-US</dc:language>
  <cp:lastModifiedBy>CCPS</cp:lastModifiedBy>
  <dcterms:modified xsi:type="dcterms:W3CDTF">2010-03-10T20:53:37Z</dcterms:modified>
  <cp:revision>1</cp:revision>
  <dc:subject/>
  <dc:title>Slide 1</dc:title>
</cp:coreProperties>
</file>